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210-63EA-47D1-B788-7A9FEC5E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3A8-4BDE-40C4-8D5B-E85CD44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0E1-1FD1-4226-9B94-9C5EBB29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51C-BEE1-4313-AFB4-4CB30E95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B72F-6789-4854-82E6-636ABF8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1DF-0F99-4CDF-8475-88F2C669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C62-EB49-4681-998B-8237489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03E-536E-45B3-B71D-5AAE7962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432D-2BCE-4571-9C77-66C5DF5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D513-7E4C-4551-BCE0-F223C4B5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5744-B326-4410-A659-E1E1461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1B8-14B3-47F2-A025-61AA8BE1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0EA-8620-4573-AC31-C2FA6E2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494-6AB3-4418-9FC6-9D484AF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2B23-A34B-43DE-AE93-87D549B5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0D5-597C-4D1D-8AFA-4180BA78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5BEB-219B-4740-BBF3-4A63C8CB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6799-28D1-4E74-9E0A-EDADB204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DE6D-BA08-4B9D-A6A1-4B43914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86AD-8E2C-450C-BC29-828ACE2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6C53-0208-4DBD-B89D-14E5F29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FD0E-5B84-453F-8C6E-A53275CA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0C8-A196-4C3F-A627-8AB2351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6F1A-092A-49F5-8B9F-B4C9D1E0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72D2-C4BB-4DEA-82EE-E58968EF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4904-22CE-4DF1-AC31-37B3F73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C5D9-2CBA-4106-AE5B-56A8331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2111-A742-48B2-8E6C-A3632E6E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2892-7CAE-4CD7-A2FA-99077C0E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F14E-6C99-42DE-B6A9-DB96CB3B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310F9-6059-4A95-94CC-2927B8DC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C2FE-2916-462C-859D-ED42D0B6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2EA4-E2D2-471F-B42D-3618BE1A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04A-2CF2-445C-944D-520D7FED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674E-4CC2-4D85-AC1C-4D0599D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7EC8-05C1-44F3-BAE6-1DD6DB0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55DF-DC20-4D09-B42B-B6254263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EC9E-AAB9-450D-B1E0-2D260EBC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312D-8AB1-442A-8474-6FE9DFF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5B4E8-D41A-4712-8AAF-B994071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5795-8D0E-4E06-AA86-CA370D34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0AD8-1FF4-4402-85C4-4679A80D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C389-E15B-4E9E-BE66-0FB92055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F4C0-64E4-4311-9C88-FCEA98D6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5D1-6510-42BE-ABA7-5B64EED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3478-DB7B-4CB1-B790-7C91D24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1CA3-B1F0-45E7-949E-C180EDC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33D2-64CE-4FE1-844C-E570A39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E212-CFFB-405A-97ED-DF2DA65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DE58-508C-4AB3-B1FE-6414348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0E9A-0B10-4FD5-915D-B5C0679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9896-70B6-4B49-A535-B845B13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26F4-B0B7-42B9-B817-5FCCDC2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0A5B-4190-4EDD-A679-AB7CC840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C937-504B-4FF1-968A-E32A295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D0D-D5E2-41AD-B322-2CB5EA2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215C-6B58-4285-A1DA-BBEA5904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5B3A-B488-4C88-9B9F-84F8447B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D5E7-C71B-479F-B31B-4E704154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7A61-3E0B-42B0-925E-B343483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6C8F-11EC-4D92-8ED5-2A596309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87E5D-0853-4769-97BE-4C09AFB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3E6E-3A23-4074-AF15-D344795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A1F7-FB4A-4B67-BF7E-B2AB1E3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2E58-B573-4C9B-A077-06AC813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71CB-AF7A-4B0B-B782-0879102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8A7-7F96-465F-81AF-D43AFDA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C4E7-F594-4AEE-B843-D2C4CE83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585FE-601E-4B04-9F80-263DCE6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A639-FD07-408F-9A47-299B56EE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A9A-52B9-4F65-BE79-A09AF7E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90C-027B-4A5D-A2BC-E94A128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F24-A7FF-43A5-93B1-060C14244B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EA3-6939-486D-839A-A5FA46E4E6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5D5-A06D-4CFE-A1E2-BD739D8C6B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435C-C717-4056-B435-80D6C0FF232E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AA9-B20F-4537-837C-80421C1BAF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810E-33F1-47EA-8CDB-7F538B3424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mer_British_Museum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"/>
              </a:rPr>
              <a:t>EXTENDED ESSA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5229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4000 WORD INDEPENDENT RESEARCH PROJECT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011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468360" y="260280"/>
            <a:ext cx="3009960" cy="388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5219640" y="1341360"/>
            <a:ext cx="3313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WHAT IS AN EE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Approximately 40-60 hours of work over a nine month period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he EE, TOK and CAS combined form the core of the IB Diploma programme</a:t>
            </a:r>
            <a:r>
              <a:rPr b="1" lang="en-GB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950080"/>
            <a:ext cx="701640" cy="907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REQUIRE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No EE = NO DIPLOMA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Each student will have an EE supervisor – this is a member of teaching staff at the BIS-V secondary campus (see table attached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 language A1/B EE must be submitted in that language. All other EE’s must be submitted in English, French or Spanish only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9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EE </a:t>
            </a:r>
            <a:r>
              <a:rPr b="1" lang="en-GB" sz="3600" spc="-1" strike="noStrike">
                <a:solidFill>
                  <a:srgbClr val="000000"/>
                </a:solidFill>
                <a:latin typeface="Franklin Gothic Medium"/>
              </a:rPr>
              <a:t>REQUIREMENTS</a:t>
            </a: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: ACADEMIC HONESTY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200" y="1484280"/>
            <a:ext cx="88563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Students are responsible for ensuring that his or her EE is authentic, with the work of others fully and correctly acknowledged” 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i="1" lang="en-GB" sz="1400" spc="-1" strike="noStrike">
                <a:solidFill>
                  <a:srgbClr val="000000"/>
                </a:solidFill>
                <a:latin typeface="Franklin Gothic Book"/>
              </a:rPr>
              <a:t>(IBO EE handbook 2009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Students will be taught how to research and reference their work in a number of sessions run by  Mr. Jacque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ASSESSMENT GRADES FOR EE</a:t>
            </a: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58920" y="1600200"/>
          <a:ext cx="7427880" cy="4525920"/>
        </p:xfrm>
        <a:graphic>
          <a:graphicData uri="http://schemas.openxmlformats.org/drawingml/2006/table">
            <a:tbl>
              <a:tblPr/>
              <a:tblGrid>
                <a:gridCol w="2239920"/>
                <a:gridCol w="2239920"/>
                <a:gridCol w="2948040"/>
              </a:tblGrid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c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isfa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-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-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8" name="Picture 120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1" descr="TriWorldSchool2Colourlarge"/>
          <p:cNvPicPr/>
          <p:nvPr/>
        </p:nvPicPr>
        <p:blipFill>
          <a:blip r:embed="rId2"/>
          <a:stretch/>
        </p:blipFill>
        <p:spPr>
          <a:xfrm>
            <a:off x="7956720" y="189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SUBJECTS AVAILABLE AT BI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844640"/>
            <a:ext cx="90360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All subjects that are available for study are also available for an extended essay, except ab initio subject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CHOICE OF SUBJECT</a:t>
            </a: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03160" y="1773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hoose your subject area before you choose a topic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You should have a keen interest in the subject that you choos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CHOICE OF TOPI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hoose a topic within a subject that is interesting and challenging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t should be limited in scope and sufficiently narrow to allow examination of the issue or problem in depth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t should allow you to generate information/data for analysis and evaluation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RESEARCH QUES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Need to formulate a narrow, focused and specific research ques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It can be a question, or a hypothesis. This will form the title of your E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You must refer to your EE question throughout the EE. You must aim to answer the EE ques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4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OVERALL APPROACH TO THE EE: WHERE TO STAR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97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HOD talks next Tuesday – 7 Februar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raining in citation and referencing (Mr Jacque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elect subject / topic / supervisor/ obtain subject EE guid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raining in researching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omplete extended essay study pl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arry out necessary research / write EE / meet with supervis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8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anklin Gothic Medium"/>
              </a:rPr>
              <a:t>EXTENDED ESSAY STUDY 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his needs to be completed by Friday 15</a:t>
            </a:r>
            <a:r>
              <a:rPr b="1" lang="en-GB" sz="28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 of June at the latest…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ranklin Gothic Medium"/>
              </a:rPr>
              <a:t>WHAT PICTURE COMES TO MIND WHEN YOU THINK OF THOSE TWO WORDS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 rot="19140000">
            <a:off x="1577160" y="2715840"/>
            <a:ext cx="651060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EXTENDED ESSAY?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WRITING THE EE: REQUIRED ELEMENT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19000" y="14842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Title pag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bstract (300 words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tents pag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ntroduc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Body/methods/findings/result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clus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llustration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Reference and bibliography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Appendices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Franklin Gothic Book"/>
              </a:rPr>
              <a:t>(please refer to the EE handbook)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6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DO’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Be familiar with the EE assessment criteria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Read samples of good EE’s from previous year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sult your resources before constructing a research question – you can always narrow it down or change it as you progres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Start the process straight away – BE ORGANISED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Plan the structure of your essay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MEET ALL DEADLINE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83480" indent="-483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Write the abstract at the end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0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EE DON’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Try to answer a broad research ques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Include materials that are not directly relevant to the research question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Use description only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Forget to analyse and evaluate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Forget to use evidence to support your argument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Plagiariz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ite sources that are not used or forget to cite sources that are used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4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13960" y="112536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Provides advice/guidance in how to undertake research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Helps to formulate the research question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Reads and comments on the first draft (does not edit it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Support the student in the research process and monitors progres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Checks that the work is authentic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Franklin Gothic Book"/>
              </a:rPr>
              <a:t>Marks the final draft and gives a predicted grad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8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Spends a maximum of 5 hours (over the nine month period) with their EE student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Gives advice on how to access appropriate resource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Gives advice on how to write each section of the EE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Franklin Gothic Book"/>
              </a:rPr>
              <a:t>Conducts a short interview with the student when the EE is over (the viva voce)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2" name="Picture 4" descr="British International School (Approval)"/>
          <p:cNvPicPr/>
          <p:nvPr/>
        </p:nvPicPr>
        <p:blipFill>
          <a:blip r:embed="rId1"/>
          <a:stretch/>
        </p:blipFill>
        <p:spPr>
          <a:xfrm>
            <a:off x="0" y="5805360"/>
            <a:ext cx="814320" cy="10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TriWorldSchool2Colourlarge"/>
          <p:cNvPicPr/>
          <p:nvPr/>
        </p:nvPicPr>
        <p:blipFill>
          <a:blip r:embed="rId2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EE DEADLI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964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Friday 2</a:t>
            </a:r>
            <a:r>
              <a:rPr b="1" lang="en-GB" sz="4400" spc="-1" strike="noStrike" baseline="30000">
                <a:solidFill>
                  <a:srgbClr val="000000"/>
                </a:solidFill>
                <a:latin typeface="Franklin Gothic Book"/>
              </a:rPr>
              <a:t>nd</a:t>
            </a:r>
            <a:r>
              <a:rPr b="1" lang="en-GB" sz="4400" spc="-1" strike="noStrike">
                <a:solidFill>
                  <a:srgbClr val="000000"/>
                </a:solidFill>
                <a:latin typeface="Franklin Gothic Book"/>
              </a:rPr>
              <a:t> of November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Franklin Gothic Medium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5" descr="132425778_714cd39f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Picture 5" descr="Frightening-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2" name="Picture 5" descr="achieving-goal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THE GOOD NEW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1880" y="1100160"/>
            <a:ext cx="8070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Doing well in your extended essay can give you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extra IB points</a:t>
            </a: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It is </a:t>
            </a:r>
            <a:r>
              <a:rPr b="1" i="1" lang="en-GB" sz="3200" spc="-1" strike="noStrike">
                <a:solidFill>
                  <a:srgbClr val="000000"/>
                </a:solidFill>
                <a:latin typeface="Franklin Gothic Book"/>
              </a:rPr>
              <a:t>really</a:t>
            </a: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 difficult to fail an extended essay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EVEN THIS PERSON COULD PASS AN EE. PROBABLY</a:t>
            </a: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6" name="Picture 5" descr="Stupid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Homer British Muse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HomerSimpson38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klin Gothic Medium"/>
              </a:rPr>
              <a:t>WHAT IS AN EXTENDED ESSAY (EE)?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8000" y="1413000"/>
            <a:ext cx="90360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4000 word independent research project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Gives students the opportunity to investigate a topic of special interest to th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Provides students with the opportunity to develop independent research and writing skills in preparation for university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TriWorldSchool2Colourlarge"/>
          <p:cNvPicPr/>
          <p:nvPr/>
        </p:nvPicPr>
        <p:blipFill>
          <a:blip r:embed="rId1"/>
          <a:stretch/>
        </p:blipFill>
        <p:spPr>
          <a:xfrm>
            <a:off x="8101080" y="5877000"/>
            <a:ext cx="1042920" cy="98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British International School (Approval)"/>
          <p:cNvPicPr/>
          <p:nvPr/>
        </p:nvPicPr>
        <p:blipFill>
          <a:blip r:embed="rId2"/>
          <a:stretch/>
        </p:blipFill>
        <p:spPr>
          <a:xfrm>
            <a:off x="0" y="5848200"/>
            <a:ext cx="7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3:13:22Z</dcterms:created>
  <dc:creator>AnnaBerney</dc:creator>
  <dc:description/>
  <dc:language>en-US</dc:language>
  <cp:lastModifiedBy>Richard Arch</cp:lastModifiedBy>
  <dcterms:modified xsi:type="dcterms:W3CDTF">2012-01-19T02:01:27Z</dcterms:modified>
  <cp:revision>13</cp:revision>
  <dc:subject/>
  <dc:title>Extended Essay</dc:title>
</cp:coreProperties>
</file>